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0.wmf" ContentType="image/x-wmf"/>
  <Override PartName="/ppt/media/image5.wmf" ContentType="image/x-wmf"/>
  <Override PartName="/ppt/media/image1.jpeg" ContentType="image/jpeg"/>
  <Override PartName="/ppt/media/PROJCTOR.WAV" ContentType="audio/x-wav"/>
  <Override PartName="/ppt/media/image4.wmf" ContentType="image/x-wmf"/>
  <Override PartName="/ppt/media/WHOOSH.WAV" ContentType="audio/x-wav"/>
  <Override PartName="/ppt/media/image7.wmf" ContentType="image/x-wmf"/>
  <Override PartName="/ppt/media/GLASS.WAV" ContentType="audio/x-wav"/>
  <Override PartName="/ppt/media/CHIMES.WAV" ContentType="audio/x-wav"/>
  <Override PartName="/ppt/media/image6.wmf" ContentType="image/x-wmf"/>
  <Override PartName="/ppt/media/RICOCHET.WAV" ContentType="audio/x-wav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6197-E876-472A-A53F-E9F28036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F8CC-18FC-4FE7-8510-51CFF7FE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349A-6FD7-4CC0-B20B-508B1FE7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AFBB-762E-472E-9152-D1AC8E62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FACE-E6EE-46CB-9AD4-538575A6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051D-64A9-484C-A12F-BC0B4DC2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0A48-D713-4980-B92E-8C807665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1FE0-F273-45F9-9964-F384C462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9A79-1BB8-45F0-A780-6DE0BA11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0E76-9DA7-4E86-9021-7C6ECD80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A9DD-1880-4556-97AF-E7C074AA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3F9B-9365-4420-BE52-07CBEA37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CF90-AB25-488B-B8B2-026EA23A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CAEB-D1A9-4496-83DA-23EA30F1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EE36-2922-4577-9EA3-1391DEFF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493A-E53C-43B1-B1B3-D5970CF9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60C8-34C9-4B13-981F-56861120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A534-4A9C-4A3C-84B8-86800EAC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041A-584B-43BD-B81C-C955BB98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00F0-3877-40DC-A33D-98E30D8E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B66F-589A-480D-9E51-0F5A57CA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EC59-61FD-4ECA-9A1F-E4E1E8EA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8F2C-A8CA-44ED-8C25-00A9FC02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13C1-3F64-44B6-BBA1-5BD33262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B52E-A43F-4D3E-875B-A85992BF8D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1D98-7253-418C-8B38-EBFAD68FF6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GLAS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440" y="4568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SOLVING QUADRATICS</a:t>
            </a:r>
            <a:endParaRPr b="0" lang="en-US" sz="4400" spc="-1" strike="noStrike">
              <a:solidFill>
                <a:srgbClr val="3366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752560" y="3043080"/>
            <a:ext cx="363888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800600" y="304920"/>
                <a:ext cx="24382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876920" y="1523880"/>
                <a:ext cx="2484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e>
                            </m:rad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124080" y="2971800"/>
                <a:ext cx="2048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666880" y="4267080"/>
                <a:ext cx="358164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e>
                          </m:rad>
                          <m:r>
                            <m:t xml:space="preserve">≈</m:t>
                          </m:r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8</m:t>
                          </m:r>
                        </m:e>
                      </m:mr>
                      <m:mr>
                        <m:e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e>
                          </m:rad>
                          <m:r>
                            <m:t xml:space="preserve">≈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8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177" name=""/>
          <p:cNvGrpSpPr/>
          <p:nvPr/>
        </p:nvGrpSpPr>
        <p:grpSpPr>
          <a:xfrm>
            <a:off x="2590920" y="2895480"/>
            <a:ext cx="6095880" cy="838440"/>
            <a:chOff x="2590920" y="2895480"/>
            <a:chExt cx="6095880" cy="838440"/>
          </a:xfrm>
        </p:grpSpPr>
        <p:sp>
          <p:nvSpPr>
            <p:cNvPr id="178" name=""/>
            <p:cNvSpPr/>
            <p:nvPr/>
          </p:nvSpPr>
          <p:spPr>
            <a:xfrm>
              <a:off x="5791320" y="2971800"/>
              <a:ext cx="2895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Exact answe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90920" y="2895480"/>
              <a:ext cx="5867280" cy="838440"/>
            </a:xfrm>
            <a:prstGeom prst="rect">
              <a:avLst/>
            </a:prstGeom>
            <a:noFill/>
            <a:ln w="25560">
              <a:solidFill>
                <a:srgbClr val="ff99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905120" y="4038480"/>
            <a:ext cx="7086600" cy="1524240"/>
            <a:chOff x="1905120" y="4038480"/>
            <a:chExt cx="7086600" cy="1524240"/>
          </a:xfrm>
        </p:grpSpPr>
        <p:sp>
          <p:nvSpPr>
            <p:cNvPr id="181" name=""/>
            <p:cNvSpPr/>
            <p:nvPr/>
          </p:nvSpPr>
          <p:spPr>
            <a:xfrm>
              <a:off x="6553080" y="4435560"/>
              <a:ext cx="23623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Decimal approxima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05120" y="4038480"/>
              <a:ext cx="7086600" cy="1524240"/>
            </a:xfrm>
            <a:prstGeom prst="rect">
              <a:avLst/>
            </a:prstGeom>
            <a:noFill/>
            <a:ln w="25560">
              <a:solidFill>
                <a:srgbClr val="ff99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80880" y="457200"/>
            <a:ext cx="3353040" cy="8859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e that 2 is a factor of the numera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616040"/>
            <a:ext cx="3657600" cy="119124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2 is factored out, it can be cancelled with the 2 in the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39528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2 :   Quadratic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1066680"/>
            <a:ext cx="3352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Example 2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225960" y="990720"/>
                <a:ext cx="28270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6019920" y="152280"/>
                <a:ext cx="27432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286160" y="2652840"/>
                <a:ext cx="33908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8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273560" y="3751200"/>
                <a:ext cx="28083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254480" y="4699080"/>
                <a:ext cx="21780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248000" y="5732640"/>
                <a:ext cx="23194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380880" y="2286000"/>
            <a:ext cx="4724640" cy="436320"/>
          </a:xfrm>
          <a:prstGeom prst="rect">
            <a:avLst/>
          </a:prstGeom>
          <a:solidFill>
            <a:srgbClr val="ffd1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0099"/>
                </a:solidFill>
                <a:latin typeface="Times New Roman"/>
              </a:rPr>
              <a:t>a = </a:t>
            </a:r>
            <a:r>
              <a:rPr b="1" i="1" lang="en-US" sz="2600" spc="-1" strike="noStrike">
                <a:solidFill>
                  <a:srgbClr val="990099"/>
                </a:solidFill>
                <a:latin typeface="Arial"/>
              </a:rPr>
              <a:t>3</a:t>
            </a:r>
            <a:r>
              <a:rPr b="1" i="1" lang="en-US" sz="3000" spc="-1" strike="noStrike">
                <a:solidFill>
                  <a:srgbClr val="990099"/>
                </a:solidFill>
                <a:latin typeface="Arial"/>
              </a:rPr>
              <a:t>   </a:t>
            </a:r>
            <a:r>
              <a:rPr b="1" i="1" lang="en-US" sz="3000" spc="-1" strike="noStrike">
                <a:solidFill>
                  <a:srgbClr val="990099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990099"/>
                </a:solidFill>
                <a:latin typeface="Arial"/>
              </a:rPr>
              <a:t>=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8</a:t>
            </a:r>
            <a:r>
              <a:rPr b="1" i="1" lang="en-US" sz="3000" spc="-1" strike="noStrike">
                <a:solidFill>
                  <a:srgbClr val="990099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and</a:t>
            </a:r>
            <a:r>
              <a:rPr b="1" i="1" lang="en-US" sz="3000" spc="-1" strike="noStrike">
                <a:solidFill>
                  <a:srgbClr val="990099"/>
                </a:solidFill>
                <a:latin typeface="Arial"/>
              </a:rPr>
              <a:t>  </a:t>
            </a:r>
            <a:r>
              <a:rPr b="1" i="1" lang="en-US" sz="3000" spc="-1" strike="noStrike">
                <a:solidFill>
                  <a:srgbClr val="990099"/>
                </a:solidFill>
                <a:latin typeface="Times New Roman"/>
              </a:rPr>
              <a:t>c</a:t>
            </a:r>
            <a:r>
              <a:rPr b="1" i="1" lang="en-US" sz="3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990099"/>
                </a:solidFill>
                <a:latin typeface="Arial"/>
              </a:rPr>
              <a:t>=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1600200"/>
            <a:ext cx="6553440" cy="5205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1: Determine the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895480"/>
            <a:ext cx="3505320" cy="9165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2: Substitute the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948120"/>
            <a:ext cx="3505320" cy="4899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3: Simplif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0" y="601992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See next sl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5715000"/>
            <a:ext cx="3276720" cy="997920"/>
          </a:xfrm>
          <a:prstGeom prst="rect">
            <a:avLst/>
          </a:prstGeom>
          <a:solidFill>
            <a:srgbClr val="ceff9d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step is optional. Students need to have covered su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3733920"/>
            <a:ext cx="2209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748040" y="1523880"/>
                <a:ext cx="27417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e>
                        </m: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998800" y="2914560"/>
                <a:ext cx="230040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7400" y="4579920"/>
                <a:ext cx="444492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m>
                      <m:mr>
                        <m:e>
                          <m:f>
                            <m:num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≈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e>
                      </m:mr>
                      <m:mr>
                        <m:e>
                          <m:f>
                            <m:num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−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≈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9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203" name=""/>
          <p:cNvGrpSpPr/>
          <p:nvPr/>
        </p:nvGrpSpPr>
        <p:grpSpPr>
          <a:xfrm>
            <a:off x="2590920" y="2895480"/>
            <a:ext cx="6171840" cy="1142640"/>
            <a:chOff x="2590920" y="2895480"/>
            <a:chExt cx="6171840" cy="1142640"/>
          </a:xfrm>
        </p:grpSpPr>
        <p:sp>
          <p:nvSpPr>
            <p:cNvPr id="204" name=""/>
            <p:cNvSpPr/>
            <p:nvPr/>
          </p:nvSpPr>
          <p:spPr>
            <a:xfrm>
              <a:off x="5831280" y="2999160"/>
              <a:ext cx="2931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Exact answe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90920" y="2895480"/>
              <a:ext cx="5940720" cy="1142640"/>
            </a:xfrm>
            <a:prstGeom prst="rect">
              <a:avLst/>
            </a:prstGeom>
            <a:noFill/>
            <a:ln w="25560">
              <a:solidFill>
                <a:srgbClr val="ff99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752480" y="4495680"/>
            <a:ext cx="7238880" cy="2057040"/>
            <a:chOff x="1752480" y="4495680"/>
            <a:chExt cx="7238880" cy="2057040"/>
          </a:xfrm>
        </p:grpSpPr>
        <p:sp>
          <p:nvSpPr>
            <p:cNvPr id="207" name=""/>
            <p:cNvSpPr/>
            <p:nvPr/>
          </p:nvSpPr>
          <p:spPr>
            <a:xfrm>
              <a:off x="6500520" y="5031360"/>
              <a:ext cx="24130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Decimal approxima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52480" y="4495680"/>
              <a:ext cx="7238880" cy="2057040"/>
            </a:xfrm>
            <a:prstGeom prst="rect">
              <a:avLst/>
            </a:prstGeom>
            <a:noFill/>
            <a:ln w="25560">
              <a:solidFill>
                <a:srgbClr val="ff99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80880" y="457200"/>
            <a:ext cx="3353040" cy="8859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e that 2 is a factor of the numera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1616040"/>
            <a:ext cx="3657600" cy="119124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2 is factored out, it can be cancelled with the 6 in the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876920" y="380880"/>
                <a:ext cx="25146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39528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2 :   Quadratic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066680"/>
            <a:ext cx="3352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Example 3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206880" y="990720"/>
                <a:ext cx="28652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019920" y="152280"/>
                <a:ext cx="27432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305240" y="2652840"/>
                <a:ext cx="36194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365720" y="3751200"/>
                <a:ext cx="27208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403880" y="4818240"/>
                <a:ext cx="21492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380880" y="2286000"/>
            <a:ext cx="4724640" cy="436320"/>
          </a:xfrm>
          <a:prstGeom prst="rect">
            <a:avLst/>
          </a:prstGeom>
          <a:solidFill>
            <a:srgbClr val="ffd1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0099"/>
                </a:solidFill>
                <a:latin typeface="Times New Roman"/>
              </a:rPr>
              <a:t>a = </a:t>
            </a:r>
            <a:r>
              <a:rPr b="1" i="1" lang="en-US" sz="2600" spc="-1" strike="noStrike">
                <a:solidFill>
                  <a:srgbClr val="990099"/>
                </a:solidFill>
                <a:latin typeface="Arial"/>
              </a:rPr>
              <a:t>5</a:t>
            </a:r>
            <a:r>
              <a:rPr b="1" i="1" lang="en-US" sz="3000" spc="-1" strike="noStrike">
                <a:solidFill>
                  <a:srgbClr val="990099"/>
                </a:solidFill>
                <a:latin typeface="Arial"/>
              </a:rPr>
              <a:t>   </a:t>
            </a:r>
            <a:r>
              <a:rPr b="1" i="1" lang="en-US" sz="3000" spc="-1" strike="noStrike">
                <a:solidFill>
                  <a:srgbClr val="990099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990099"/>
                </a:solidFill>
                <a:latin typeface="Arial"/>
              </a:rPr>
              <a:t>= –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 7</a:t>
            </a:r>
            <a:r>
              <a:rPr b="1" i="1" lang="en-US" sz="3000" spc="-1" strike="noStrike">
                <a:solidFill>
                  <a:srgbClr val="990099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and</a:t>
            </a:r>
            <a:r>
              <a:rPr b="1" i="1" lang="en-US" sz="3000" spc="-1" strike="noStrike">
                <a:solidFill>
                  <a:srgbClr val="990099"/>
                </a:solidFill>
                <a:latin typeface="Arial"/>
              </a:rPr>
              <a:t>  </a:t>
            </a:r>
            <a:r>
              <a:rPr b="1" i="1" lang="en-US" sz="3000" spc="-1" strike="noStrike">
                <a:solidFill>
                  <a:srgbClr val="990099"/>
                </a:solidFill>
                <a:latin typeface="Times New Roman"/>
              </a:rPr>
              <a:t>c</a:t>
            </a:r>
            <a:r>
              <a:rPr b="1" i="1" lang="en-US" sz="3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990099"/>
                </a:solidFill>
                <a:latin typeface="Arial"/>
              </a:rPr>
              <a:t>=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600200"/>
            <a:ext cx="6553440" cy="5205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1: Determine the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2895480"/>
            <a:ext cx="3505320" cy="9165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2: Substitute the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3948120"/>
            <a:ext cx="3505320" cy="4899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3: Simplif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4724280"/>
            <a:ext cx="3505320" cy="12819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 - you cannot find the square root of a negative numb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5791320"/>
            <a:ext cx="403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 real Solu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753000"/>
            <a:ext cx="2209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90720" y="625320"/>
            <a:ext cx="69339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99"/>
                </a:solidFill>
                <a:latin typeface="Arial"/>
              </a:rPr>
              <a:t>That was a lot of work to find that there was no solution!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2241720"/>
            <a:ext cx="69339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99"/>
                </a:solidFill>
                <a:latin typeface="Arial"/>
              </a:rPr>
              <a:t>It would be useful to be able to “test” the equation before we start.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4282920"/>
            <a:ext cx="69339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99"/>
                </a:solidFill>
                <a:latin typeface="Arial"/>
              </a:rPr>
              <a:t>For this we use the DISCRIMINAN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90720" y="533520"/>
            <a:ext cx="396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99"/>
                </a:solidFill>
                <a:latin typeface="Arial"/>
              </a:rPr>
              <a:t>The Discrimin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1600200"/>
            <a:ext cx="739116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The discriminant is a quick way to check how many real solutions exist for a given quadratic equation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886280" y="412920"/>
                <a:ext cx="30290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2" name=""/>
          <p:cNvGrpSpPr/>
          <p:nvPr/>
        </p:nvGrpSpPr>
        <p:grpSpPr>
          <a:xfrm>
            <a:off x="990720" y="3537000"/>
            <a:ext cx="7010280" cy="1647000"/>
            <a:chOff x="990720" y="3537000"/>
            <a:chExt cx="7010280" cy="1647000"/>
          </a:xfrm>
        </p:grpSpPr>
        <p:sp>
          <p:nvSpPr>
            <p:cNvPr id="233" name=""/>
            <p:cNvSpPr/>
            <p:nvPr/>
          </p:nvSpPr>
          <p:spPr>
            <a:xfrm>
              <a:off x="990720" y="3537000"/>
              <a:ext cx="701028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990099"/>
                  </a:solidFill>
                  <a:latin typeface="Arial"/>
                </a:rPr>
                <a:t>As shown above the symbol for the discriminant is     and it is calculated using              .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4343400" y="4572000"/>
                  <a:ext cx="1523880" cy="56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a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3894120" y="4000680"/>
                  <a:ext cx="525600" cy="61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533520" y="228600"/>
            <a:ext cx="8610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99"/>
                </a:solidFill>
                <a:latin typeface="Arial"/>
              </a:rPr>
              <a:t>Summary of Results using  Discrimin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2313000"/>
            <a:ext cx="1295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&gt; 0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95480" y="1981080"/>
            <a:ext cx="4800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The equation has </a:t>
            </a:r>
            <a:r>
              <a:rPr b="1" lang="en-US" sz="3400" spc="-1" strike="noStrike">
                <a:solidFill>
                  <a:srgbClr val="990099"/>
                </a:solidFill>
                <a:latin typeface="Arial"/>
              </a:rPr>
              <a:t>two </a:t>
            </a: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real solu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429000" y="907920"/>
                <a:ext cx="302904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1905120" y="3684600"/>
            <a:ext cx="1295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= 0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98720" y="3444840"/>
            <a:ext cx="50259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The equation has </a:t>
            </a:r>
            <a:r>
              <a:rPr b="1" lang="en-US" sz="3400" spc="-1" strike="noStrike">
                <a:solidFill>
                  <a:srgbClr val="990099"/>
                </a:solidFill>
                <a:latin typeface="Arial"/>
              </a:rPr>
              <a:t>one</a:t>
            </a: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 real solu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132520"/>
            <a:ext cx="1295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&lt; 0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22400" y="4816440"/>
            <a:ext cx="4950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The equation has </a:t>
            </a:r>
            <a:r>
              <a:rPr b="1" lang="en-US" sz="3400" spc="-1" strike="noStrike">
                <a:solidFill>
                  <a:srgbClr val="990099"/>
                </a:solidFill>
                <a:latin typeface="Arial"/>
              </a:rPr>
              <a:t>no</a:t>
            </a: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 real solu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442880" y="4952880"/>
                <a:ext cx="519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461960" y="2152800"/>
                <a:ext cx="519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428840" y="3524400"/>
                <a:ext cx="519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3520" y="228600"/>
            <a:ext cx="8610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99"/>
                </a:solidFill>
                <a:latin typeface="Arial"/>
              </a:rPr>
              <a:t>Relating the Discriminant to graph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1676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&gt; 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429000" y="907920"/>
                <a:ext cx="302904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685800" y="4648320"/>
            <a:ext cx="784872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The graph cuts the </a:t>
            </a:r>
            <a:r>
              <a:rPr b="0" i="1" lang="en-US" sz="36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-axis in two places.  These are the two real solutions to the quadratic equation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914400" y="2286000"/>
          <a:ext cx="2219400" cy="23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22194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3809880" y="2286000"/>
          <a:ext cx="2067120" cy="21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286000"/>
                    <a:ext cx="206712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723960" y="1581120"/>
                <a:ext cx="519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6" name=""/>
          <p:cNvGraphicFramePr/>
          <p:nvPr/>
        </p:nvGraphicFramePr>
        <p:xfrm>
          <a:off x="6467400" y="2209680"/>
          <a:ext cx="2067120" cy="219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67400" y="2209680"/>
                    <a:ext cx="206712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33520" y="228600"/>
            <a:ext cx="8610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99"/>
                </a:solidFill>
                <a:latin typeface="Arial"/>
              </a:rPr>
              <a:t>Relating the Discriminant to graph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429000" y="907920"/>
                <a:ext cx="302904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1143000" y="1676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= 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4876920"/>
            <a:ext cx="7696080" cy="13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These graphs have their turning point on the </a:t>
            </a:r>
            <a:r>
              <a:rPr b="0" i="1" lang="en-US" sz="36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-axis and hence there is only the one solution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838080" y="2286000"/>
          <a:ext cx="2219400" cy="23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0"/>
                    <a:ext cx="22194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581280" y="2057400"/>
          <a:ext cx="2371680" cy="25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2057400"/>
                    <a:ext cx="23716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685800" y="1600200"/>
                <a:ext cx="519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67" name=""/>
          <p:cNvGraphicFramePr/>
          <p:nvPr/>
        </p:nvGraphicFramePr>
        <p:xfrm>
          <a:off x="6391440" y="2057400"/>
          <a:ext cx="2371680" cy="25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91440" y="2057400"/>
                    <a:ext cx="23716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533520" y="228600"/>
            <a:ext cx="8610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99"/>
                </a:solidFill>
                <a:latin typeface="Arial"/>
              </a:rPr>
              <a:t>Relating the Discriminant to graph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429000" y="907920"/>
                <a:ext cx="302904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1066680" y="1676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&lt; 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5029200"/>
            <a:ext cx="7391520" cy="13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There are no solutions in this case because the graphs do not intersect with the </a:t>
            </a:r>
            <a:r>
              <a:rPr b="0" i="1" lang="en-US" sz="36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-axi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609480" y="2286000"/>
          <a:ext cx="2219400" cy="23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22194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3505320" y="2286000"/>
          <a:ext cx="2371680" cy="25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286000"/>
                    <a:ext cx="23716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628560" y="1600200"/>
                <a:ext cx="519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78" name=""/>
          <p:cNvGraphicFramePr/>
          <p:nvPr/>
        </p:nvGraphicFramePr>
        <p:xfrm>
          <a:off x="6315120" y="2286000"/>
          <a:ext cx="2371680" cy="25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15120" y="2286000"/>
                    <a:ext cx="23716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SOLVING QUADRATICS</a:t>
            </a:r>
            <a:endParaRPr b="0" lang="en-US" sz="44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39880" y="2446200"/>
            <a:ext cx="276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057400" y="3048120"/>
                <a:ext cx="571500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918360" y="4703760"/>
            <a:ext cx="56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constan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45720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hod 3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ting the Square Techniq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200400" y="1066680"/>
                <a:ext cx="31258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438280" y="2057400"/>
                <a:ext cx="38656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110040" y="3581280"/>
                <a:ext cx="32144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533520" y="1203480"/>
            <a:ext cx="243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Example 1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33520" y="2819160"/>
            <a:ext cx="2971800" cy="1038600"/>
            <a:chOff x="533520" y="2819160"/>
            <a:chExt cx="2971800" cy="1038600"/>
          </a:xfrm>
        </p:grpSpPr>
        <p:sp>
          <p:nvSpPr>
            <p:cNvPr id="286" name=""/>
            <p:cNvSpPr/>
            <p:nvPr/>
          </p:nvSpPr>
          <p:spPr>
            <a:xfrm>
              <a:off x="533520" y="2971800"/>
              <a:ext cx="1828800" cy="885960"/>
            </a:xfrm>
            <a:prstGeom prst="rect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990099"/>
                  </a:solidFill>
                  <a:latin typeface="Arial"/>
                </a:rPr>
                <a:t>This value is half </a:t>
              </a:r>
              <a:r>
                <a:rPr b="1" i="1" lang="en-US" sz="2600" spc="-1" strike="noStrike">
                  <a:solidFill>
                    <a:srgbClr val="990099"/>
                  </a:solidFill>
                  <a:latin typeface="Times New Roman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62320" y="3352680"/>
              <a:ext cx="1143000" cy="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505320" y="2819160"/>
              <a:ext cx="0" cy="53316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4572000" y="2590920"/>
            <a:ext cx="4114800" cy="1440360"/>
            <a:chOff x="4572000" y="2590920"/>
            <a:chExt cx="4114800" cy="1440360"/>
          </a:xfrm>
        </p:grpSpPr>
        <p:sp>
          <p:nvSpPr>
            <p:cNvPr id="290" name=""/>
            <p:cNvSpPr/>
            <p:nvPr/>
          </p:nvSpPr>
          <p:spPr>
            <a:xfrm>
              <a:off x="6400800" y="2590920"/>
              <a:ext cx="2286000" cy="1440360"/>
            </a:xfrm>
            <a:prstGeom prst="rect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990099"/>
                  </a:solidFill>
                  <a:latin typeface="Arial"/>
                </a:rPr>
                <a:t>Subtract the square of the number in the bracke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2000" y="3352680"/>
              <a:ext cx="1828800" cy="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4572000" y="2819160"/>
              <a:ext cx="0" cy="53316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809880" y="4324320"/>
                <a:ext cx="24717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424400" y="4991040"/>
                <a:ext cx="27385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148360" y="5810400"/>
                <a:ext cx="27763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380880" y="4419720"/>
            <a:ext cx="3200400" cy="4899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6 to both si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5105520"/>
            <a:ext cx="3200400" cy="7671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ke the square root of both si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6019920"/>
            <a:ext cx="3200400" cy="7275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tract 3 from both si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48120" y="3581280"/>
            <a:ext cx="327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19720" y="5029200"/>
            <a:ext cx="327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0880" y="45720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hod 3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ting the Square Techniq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2514600"/>
            <a:ext cx="7391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This result gives us the exact answers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505320" y="1295280"/>
                <a:ext cx="27763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671400" y="3124080"/>
                <a:ext cx="41292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5300640" y="3143160"/>
                <a:ext cx="277668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609480" y="39466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Use your calculator to find decimal approximations accurate to two decimal places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533600" y="5113440"/>
                <a:ext cx="57816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or    </m:t>
                    </m:r>
                    <m:r>
                      <m:t xml:space="preserve">x</m:t>
                    </m:r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0880" y="45720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hod 3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ting the Square Techniq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220920" y="1066680"/>
                <a:ext cx="30830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2428920" y="1778040"/>
                <a:ext cx="381960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505320" y="3251160"/>
                <a:ext cx="27432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533520" y="1203480"/>
            <a:ext cx="243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Example 2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267080" y="4146480"/>
                <a:ext cx="22100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551480" y="5008680"/>
                <a:ext cx="24588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334120" y="5813280"/>
                <a:ext cx="22860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380880" y="5105520"/>
            <a:ext cx="3200400" cy="7671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ke the square root of both si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6019920"/>
            <a:ext cx="3200400" cy="7275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tract 2.5 from both si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33520" y="2895480"/>
            <a:ext cx="2895480" cy="895320"/>
            <a:chOff x="533520" y="2895480"/>
            <a:chExt cx="2895480" cy="895320"/>
          </a:xfrm>
        </p:grpSpPr>
        <p:sp>
          <p:nvSpPr>
            <p:cNvPr id="319" name=""/>
            <p:cNvSpPr/>
            <p:nvPr/>
          </p:nvSpPr>
          <p:spPr>
            <a:xfrm>
              <a:off x="533520" y="2904840"/>
              <a:ext cx="1828800" cy="885960"/>
            </a:xfrm>
            <a:prstGeom prst="rect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990099"/>
                  </a:solidFill>
                  <a:latin typeface="Arial"/>
                </a:rPr>
                <a:t>This value is half </a:t>
              </a:r>
              <a:r>
                <a:rPr b="1" i="1" lang="en-US" sz="2600" spc="-1" strike="noStrike">
                  <a:solidFill>
                    <a:srgbClr val="990099"/>
                  </a:solidFill>
                  <a:latin typeface="Times New Roman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362320" y="3276360"/>
              <a:ext cx="1066680" cy="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429000" y="2895480"/>
              <a:ext cx="0" cy="38088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648320" y="2438280"/>
            <a:ext cx="4038480" cy="1440360"/>
            <a:chOff x="4648320" y="2438280"/>
            <a:chExt cx="4038480" cy="1440360"/>
          </a:xfrm>
        </p:grpSpPr>
        <p:sp>
          <p:nvSpPr>
            <p:cNvPr id="323" name=""/>
            <p:cNvSpPr/>
            <p:nvPr/>
          </p:nvSpPr>
          <p:spPr>
            <a:xfrm>
              <a:off x="6400800" y="2438280"/>
              <a:ext cx="2286000" cy="1440360"/>
            </a:xfrm>
            <a:prstGeom prst="rect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990099"/>
                  </a:solidFill>
                  <a:latin typeface="Arial"/>
                </a:rPr>
                <a:t>Subtract the square of the number in the bracke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4648320" y="3276360"/>
              <a:ext cx="1752480" cy="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4648320" y="2895480"/>
              <a:ext cx="0" cy="38088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80880" y="4419720"/>
            <a:ext cx="3200400" cy="489960"/>
            <a:chOff x="380880" y="4419720"/>
            <a:chExt cx="3200400" cy="489960"/>
          </a:xfrm>
        </p:grpSpPr>
        <p:sp>
          <p:nvSpPr>
            <p:cNvPr id="327" name=""/>
            <p:cNvSpPr/>
            <p:nvPr/>
          </p:nvSpPr>
          <p:spPr>
            <a:xfrm>
              <a:off x="380880" y="4419720"/>
              <a:ext cx="3200400" cy="489960"/>
            </a:xfrm>
            <a:prstGeom prst="rect">
              <a:avLst/>
            </a:prstGeom>
            <a:solidFill>
              <a:srgbClr val="ffd1ff"/>
            </a:solidFill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Add    to both side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8" name=""/>
                <p:cNvSpPr txBox="1"/>
                <p:nvPr/>
              </p:nvSpPr>
              <p:spPr>
                <a:xfrm>
                  <a:off x="1143000" y="4495680"/>
                  <a:ext cx="22860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7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9" name=""/>
          <p:cNvSpPr/>
          <p:nvPr/>
        </p:nvSpPr>
        <p:spPr>
          <a:xfrm>
            <a:off x="3048120" y="3352680"/>
            <a:ext cx="31240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80880" y="457200"/>
            <a:ext cx="381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Example 3:  Solv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3733920" y="311040"/>
                <a:ext cx="37335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362320" y="1143000"/>
                <a:ext cx="3952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1981080" y="3740040"/>
                <a:ext cx="442116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457200" y="2286000"/>
                <a:ext cx="59929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6400800" y="1066680"/>
            <a:ext cx="2590920" cy="825480"/>
          </a:xfrm>
          <a:prstGeom prst="rect">
            <a:avLst/>
          </a:prstGeom>
          <a:solidFill>
            <a:srgbClr val="e8d1ff"/>
          </a:solidFill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Factor out the coefficient of x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2209680" y="4419720"/>
                <a:ext cx="41562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7" name=""/>
          <p:cNvGrpSpPr/>
          <p:nvPr/>
        </p:nvGrpSpPr>
        <p:grpSpPr>
          <a:xfrm>
            <a:off x="380880" y="2895480"/>
            <a:ext cx="1981440" cy="987480"/>
            <a:chOff x="380880" y="2895480"/>
            <a:chExt cx="1981440" cy="987480"/>
          </a:xfrm>
        </p:grpSpPr>
        <p:sp>
          <p:nvSpPr>
            <p:cNvPr id="338" name=""/>
            <p:cNvSpPr/>
            <p:nvPr/>
          </p:nvSpPr>
          <p:spPr>
            <a:xfrm>
              <a:off x="380880" y="3057480"/>
              <a:ext cx="1752840" cy="825480"/>
            </a:xfrm>
            <a:prstGeom prst="rect">
              <a:avLst/>
            </a:prstGeom>
            <a:solidFill>
              <a:srgbClr val="e8d1ff"/>
            </a:solidFill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99"/>
                  </a:solidFill>
                  <a:latin typeface="Arial"/>
                </a:rPr>
                <a:t>This value is half </a:t>
              </a:r>
              <a:r>
                <a:rPr b="1" i="1" lang="en-US" sz="2400" spc="-1" strike="noStrike">
                  <a:solidFill>
                    <a:srgbClr val="99009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133720" y="3429000"/>
              <a:ext cx="228600" cy="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362320" y="2895480"/>
              <a:ext cx="0" cy="53352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809520" y="2514600"/>
            <a:ext cx="4877280" cy="1336680"/>
            <a:chOff x="3809520" y="2514600"/>
            <a:chExt cx="4877280" cy="1336680"/>
          </a:xfrm>
        </p:grpSpPr>
        <p:grpSp>
          <p:nvGrpSpPr>
            <p:cNvPr id="342" name=""/>
            <p:cNvGrpSpPr/>
            <p:nvPr/>
          </p:nvGrpSpPr>
          <p:grpSpPr>
            <a:xfrm>
              <a:off x="3809520" y="2514600"/>
              <a:ext cx="4877280" cy="1336680"/>
              <a:chOff x="3809520" y="2514600"/>
              <a:chExt cx="4877280" cy="1336680"/>
            </a:xfrm>
          </p:grpSpPr>
          <p:sp>
            <p:nvSpPr>
              <p:cNvPr id="343" name=""/>
              <p:cNvSpPr/>
              <p:nvPr/>
            </p:nvSpPr>
            <p:spPr>
              <a:xfrm>
                <a:off x="6553080" y="2514600"/>
                <a:ext cx="2133720" cy="1336680"/>
              </a:xfrm>
              <a:prstGeom prst="rect">
                <a:avLst/>
              </a:prstGeom>
              <a:solidFill>
                <a:srgbClr val="e8d1ff"/>
              </a:solidFill>
              <a:ln w="1908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99"/>
                    </a:solidFill>
                    <a:latin typeface="Arial"/>
                  </a:rPr>
                  <a:t>Subtract the square of the number in the brack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3809520" y="3429000"/>
                <a:ext cx="2057400" cy="0"/>
              </a:xfrm>
              <a:prstGeom prst="line">
                <a:avLst/>
              </a:prstGeom>
              <a:ln w="2844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3809880" y="2895480"/>
                <a:ext cx="0" cy="533520"/>
              </a:xfrm>
              <a:prstGeom prst="line">
                <a:avLst/>
              </a:prstGeom>
              <a:ln w="28440">
                <a:solidFill>
                  <a:srgbClr val="99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5334120" y="3429000"/>
              <a:ext cx="1218960" cy="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498840" y="5181480"/>
                <a:ext cx="381636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825720" y="5797440"/>
                <a:ext cx="317340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6781680" y="62928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See next sl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57400" y="1066680"/>
            <a:ext cx="34290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81080" y="3733920"/>
            <a:ext cx="4419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2971800" y="380880"/>
                <a:ext cx="37339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429000" y="1295280"/>
                <a:ext cx="41781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419720" y="2362320"/>
                <a:ext cx="4089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04920" y="3444840"/>
                <a:ext cx="53467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5715000" y="3443400"/>
                <a:ext cx="35812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5486400" y="2362320"/>
            <a:ext cx="3276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838080" y="380880"/>
            <a:ext cx="7086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ethod 4   Graphic Calculat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00400" y="1658880"/>
            <a:ext cx="4267080" cy="13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Graph the function and find the value of the </a:t>
            </a:r>
            <a:r>
              <a:rPr b="0" i="1" lang="en-US" sz="36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-intercep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914400" y="2209680"/>
            <a:ext cx="2133720" cy="2361960"/>
            <a:chOff x="914400" y="2209680"/>
            <a:chExt cx="2133720" cy="2361960"/>
          </a:xfrm>
        </p:grpSpPr>
        <p:sp>
          <p:nvSpPr>
            <p:cNvPr id="361" name=""/>
            <p:cNvSpPr/>
            <p:nvPr/>
          </p:nvSpPr>
          <p:spPr>
            <a:xfrm flipV="1">
              <a:off x="914400" y="2209680"/>
              <a:ext cx="2057400" cy="167616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14400" y="3885840"/>
              <a:ext cx="2133720" cy="68580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3200400" y="4038480"/>
            <a:ext cx="5257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Use a solver function for a polynomial of degree 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99840" y="4572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00"/>
                </a:solidFill>
                <a:latin typeface="Arial"/>
              </a:rPr>
              <a:t>We wish to thank our supporters:</a:t>
            </a:r>
            <a:endParaRPr b="0" lang="en-US" sz="3400" spc="-1" strike="noStrike">
              <a:solidFill>
                <a:srgbClr val="3366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2752560" y="3043080"/>
            <a:ext cx="363888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743200" y="2379600"/>
                <a:ext cx="39830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olve 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dratic equation, the equation must be expressed in the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3946680"/>
            <a:ext cx="7620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is, all variables and constants must be on one side of the equals sign with zero on the oth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666880" y="1295280"/>
                <a:ext cx="39830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609480" y="644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 for Solving Quadratic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2955960"/>
            <a:ext cx="579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hod 2 :   Quadratic Formul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200400" y="3505320"/>
                <a:ext cx="370836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066680" y="236232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hod 1 :   Factoris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579132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hod 4 :   Graphic Calculat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4937040"/>
            <a:ext cx="716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hod 3 :   Completing the Squa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09480" y="38088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1 :   Factor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127160"/>
            <a:ext cx="3352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Example 1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048120" y="1066680"/>
                <a:ext cx="304776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114800" y="2057400"/>
                <a:ext cx="37879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19720" y="3048120"/>
                <a:ext cx="35510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200400" y="4191120"/>
                <a:ext cx="57150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ither  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or   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181480" y="5432400"/>
                <a:ext cx="12193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696080" y="5334120"/>
                <a:ext cx="12193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705720" y="54100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981080"/>
            <a:ext cx="2743200" cy="8859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1: Equation in  the right fo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124080"/>
            <a:ext cx="2743200" cy="4899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2: Factori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3841920"/>
            <a:ext cx="2743200" cy="12819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3: Separate the two parts of the produ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5442120"/>
            <a:ext cx="2743200" cy="8859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4: Solve each equ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971800"/>
            <a:ext cx="47246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4114800"/>
            <a:ext cx="1904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0280" y="4114800"/>
            <a:ext cx="1905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112716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00"/>
                </a:solidFill>
                <a:latin typeface="Arial"/>
              </a:rPr>
              <a:t>Example 1 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514600" y="1066680"/>
                <a:ext cx="28195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990720" y="1752480"/>
                <a:ext cx="32004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90720" y="2438280"/>
                <a:ext cx="3276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905120" y="4419720"/>
                <a:ext cx="548640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ither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or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038480" y="5084640"/>
                <a:ext cx="8384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553080" y="5029200"/>
                <a:ext cx="8384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18148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38088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points to no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1905120"/>
            <a:ext cx="3733920" cy="8859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to remember your factorisation skil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228840"/>
            <a:ext cx="8610480" cy="108108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is expressed as the product of two factors being equal to zero, therefore, one (or both) of the factors must be z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5641920"/>
            <a:ext cx="8610480" cy="82548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heck your answers are correct you can substitute them one at a time into the original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2286000"/>
            <a:ext cx="35053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4343400"/>
            <a:ext cx="1905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4343400"/>
            <a:ext cx="1905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120" y="1127160"/>
            <a:ext cx="2133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00"/>
                </a:solidFill>
                <a:latin typeface="Arial"/>
              </a:rPr>
              <a:t>Example 1 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276720" y="1066680"/>
                <a:ext cx="2819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62120" y="1981080"/>
                <a:ext cx="1295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62120" y="4191120"/>
                <a:ext cx="1143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762120" y="38088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cking solu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759040" y="1905120"/>
                <a:ext cx="326088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70280" y="4191120"/>
                <a:ext cx="292104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9480" y="38088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1 :   Factor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127160"/>
            <a:ext cx="3352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Example 2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454560" y="1066680"/>
                <a:ext cx="223488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229280" y="2057400"/>
                <a:ext cx="35575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492800" y="3048120"/>
                <a:ext cx="3403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527280" y="4221000"/>
                <a:ext cx="5311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ither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or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275440" y="5432400"/>
                <a:ext cx="10299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696080" y="5398920"/>
                <a:ext cx="14670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6705720" y="54100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743200" cy="8859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1: Equation in  the right fo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3124080"/>
            <a:ext cx="2743200" cy="4899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2: Factori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3841920"/>
            <a:ext cx="2743200" cy="12819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3: Separate the two parts of the produ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42120"/>
            <a:ext cx="2743200" cy="8859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4: Solve each equ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2971800"/>
            <a:ext cx="40384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4114800"/>
            <a:ext cx="1523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4114800"/>
            <a:ext cx="1523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39528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2 :   Quadratic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066680"/>
            <a:ext cx="3352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Example 1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124080" y="990720"/>
                <a:ext cx="26085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019920" y="152280"/>
                <a:ext cx="27432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297320" y="2652840"/>
                <a:ext cx="37036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343400" y="3765600"/>
                <a:ext cx="25779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352760" y="4722840"/>
                <a:ext cx="19195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4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343400" y="5656320"/>
                <a:ext cx="20620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380880" y="2286000"/>
            <a:ext cx="4724640" cy="436320"/>
          </a:xfrm>
          <a:prstGeom prst="rect">
            <a:avLst/>
          </a:prstGeom>
          <a:solidFill>
            <a:srgbClr val="ffd1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0099"/>
                </a:solidFill>
                <a:latin typeface="Times New Roman"/>
              </a:rPr>
              <a:t>a = </a:t>
            </a:r>
            <a:r>
              <a:rPr b="1" i="1" lang="en-US" sz="2600" spc="-1" strike="noStrike">
                <a:solidFill>
                  <a:srgbClr val="990099"/>
                </a:solidFill>
                <a:latin typeface="Arial"/>
              </a:rPr>
              <a:t>1</a:t>
            </a:r>
            <a:r>
              <a:rPr b="1" i="1" lang="en-US" sz="3000" spc="-1" strike="noStrike">
                <a:solidFill>
                  <a:srgbClr val="990099"/>
                </a:solidFill>
                <a:latin typeface="Arial"/>
              </a:rPr>
              <a:t>   </a:t>
            </a:r>
            <a:r>
              <a:rPr b="1" i="1" lang="en-US" sz="3000" spc="-1" strike="noStrike">
                <a:solidFill>
                  <a:srgbClr val="990099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990099"/>
                </a:solidFill>
                <a:latin typeface="Arial"/>
              </a:rPr>
              <a:t>=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– </a:t>
            </a:r>
            <a:r>
              <a:rPr b="1" i="1" lang="en-US" sz="2600" spc="-1" strike="noStrike">
                <a:solidFill>
                  <a:srgbClr val="990099"/>
                </a:solidFill>
                <a:latin typeface="Arial"/>
              </a:rPr>
              <a:t>8</a:t>
            </a:r>
            <a:r>
              <a:rPr b="1" i="1" lang="en-US" sz="3000" spc="-1" strike="noStrike">
                <a:solidFill>
                  <a:srgbClr val="990099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and</a:t>
            </a:r>
            <a:r>
              <a:rPr b="1" i="1" lang="en-US" sz="3000" spc="-1" strike="noStrike">
                <a:solidFill>
                  <a:srgbClr val="990099"/>
                </a:solidFill>
                <a:latin typeface="Arial"/>
              </a:rPr>
              <a:t>  </a:t>
            </a:r>
            <a:r>
              <a:rPr b="1" i="1" lang="en-US" sz="3000" spc="-1" strike="noStrike">
                <a:solidFill>
                  <a:srgbClr val="990099"/>
                </a:solidFill>
                <a:latin typeface="Times New Roman"/>
              </a:rPr>
              <a:t>c</a:t>
            </a:r>
            <a:r>
              <a:rPr b="1" i="1" lang="en-US" sz="3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990099"/>
                </a:solidFill>
                <a:latin typeface="Arial"/>
              </a:rPr>
              <a:t>=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–</a:t>
            </a:r>
            <a:r>
              <a:rPr b="1" i="1" lang="en-US" sz="2600" spc="-1" strike="noStrike">
                <a:solidFill>
                  <a:srgbClr val="990099"/>
                </a:solidFill>
                <a:latin typeface="Arial"/>
              </a:rPr>
              <a:t> 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600200"/>
            <a:ext cx="6553440" cy="5205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1: Determine the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2895480"/>
            <a:ext cx="3505320" cy="9165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2: Substitute the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3948120"/>
            <a:ext cx="3505320" cy="489960"/>
          </a:xfrm>
          <a:prstGeom prst="rect">
            <a:avLst/>
          </a:prstGeom>
          <a:solidFill>
            <a:srgbClr val="ffd1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3: Simplif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0" y="598788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See next sl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5715000"/>
            <a:ext cx="3276720" cy="997920"/>
          </a:xfrm>
          <a:prstGeom prst="rect">
            <a:avLst/>
          </a:prstGeom>
          <a:solidFill>
            <a:srgbClr val="ceff9d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step is optional. Students need to have covered su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3753000"/>
            <a:ext cx="2209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9T08:45:42Z</dcterms:created>
  <dc:creator>Academic PowerPoint</dc:creator>
  <dc:description/>
  <dc:language>en-US</dc:language>
  <cp:lastModifiedBy>David Parnis</cp:lastModifiedBy>
  <cp:lastPrinted>2002-09-19T13:27:08Z</cp:lastPrinted>
  <dcterms:modified xsi:type="dcterms:W3CDTF">2004-11-08T05:24:56Z</dcterms:modified>
  <cp:revision>79</cp:revision>
  <dc:subject>Mathematics</dc:subject>
  <dc:title>Solving Quadratics</dc:title>
</cp:coreProperties>
</file>